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397D-94E8-4F68-A950-3C7E9DDE2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2663-517D-4F04-B9D0-E035C748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C782-A7F9-4A55-BA42-7B1381D41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36EC-822A-4D8E-B200-69BD7C1AC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002F-25E5-4935-842C-D807C5E4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6C96-86C5-444C-9BE6-A872A5E4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F8F4-40D1-4907-B554-6E9DD69B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D9AC-4399-4CEA-90F3-FB244388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7A14-715B-4B4B-963E-3DD82FD3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8D08-4973-4474-8B25-8CBB3872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3A7D-8A42-4D18-85BB-034F7E64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015B-71F4-4AD0-BCB7-FAF0776A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D597-F30C-4211-93B0-4244BAC8C88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8E835803-71DB-43EF-979F-7C6146E1BF1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: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76320" y="1138320"/>
            <a:ext cx="8991360" cy="50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uke 18.22: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κουσα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δε ὁ Ἰησους εἰπεν αὐτῳ∙ Ἐπι ἑ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σοι λειπει∙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aving hea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Jesus said to him, 'One thing still remain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you …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en Jesus hea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this) he said to him, 'You still lack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e thing …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uke 7.9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: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κουσας δε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ταυτ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Ἰησους ἐθαυμασεν αὐτ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n he hear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ese thing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Jesus was amazed at hi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4BF00F20-B79C-47E3-BEB8-C712D2C47B0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-68400" y="271440"/>
            <a:ext cx="9283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000680" y="1143000"/>
          <a:ext cx="4786200" cy="2752560"/>
        </p:xfrm>
        <a:graphic>
          <a:graphicData uri="http://schemas.openxmlformats.org/drawingml/2006/table">
            <a:tbl>
              <a:tblPr/>
              <a:tblGrid>
                <a:gridCol w="714240"/>
                <a:gridCol w="714240"/>
                <a:gridCol w="1143000"/>
                <a:gridCol w="1143000"/>
                <a:gridCol w="1071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ο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α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η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ο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ε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ι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α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α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ντ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ουσι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TextBox 11"/>
          <p:cNvSpPr/>
          <p:nvPr/>
        </p:nvSpPr>
        <p:spPr>
          <a:xfrm>
            <a:off x="330120" y="190188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Gentium"/>
              </a:rPr>
              <a:t>λυ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1928880" y="1500120"/>
            <a:ext cx="1285920" cy="7034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s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λυω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3"/>
          <p:cNvSpPr/>
          <p:nvPr/>
        </p:nvSpPr>
        <p:spPr>
          <a:xfrm>
            <a:off x="928800" y="2786040"/>
            <a:ext cx="1285920" cy="7034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ori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λυσα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Straight Arrow Connector 15"/>
          <p:cNvCxnSpPr/>
          <p:nvPr/>
        </p:nvCxnSpPr>
        <p:spPr>
          <a:xfrm flipV="1">
            <a:off x="999720" y="1785240"/>
            <a:ext cx="857880" cy="21492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22" name="Straight Arrow Connector 17"/>
          <p:cNvCxnSpPr/>
          <p:nvPr/>
        </p:nvCxnSpPr>
        <p:spPr>
          <a:xfrm>
            <a:off x="999720" y="2356920"/>
            <a:ext cx="429480" cy="35820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23" name="Straight Arrow Connector 19"/>
          <p:cNvCxnSpPr/>
          <p:nvPr/>
        </p:nvCxnSpPr>
        <p:spPr>
          <a:xfrm>
            <a:off x="3286080" y="1714680"/>
            <a:ext cx="643320" cy="1800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24" name="Straight Arrow Connector 26"/>
          <p:cNvCxnSpPr/>
          <p:nvPr/>
        </p:nvCxnSpPr>
        <p:spPr>
          <a:xfrm>
            <a:off x="2000160" y="3571920"/>
            <a:ext cx="357840" cy="28656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graphicFrame>
        <p:nvGraphicFramePr>
          <p:cNvPr id="125" name=""/>
          <p:cNvGraphicFramePr/>
          <p:nvPr/>
        </p:nvGraphicFramePr>
        <p:xfrm>
          <a:off x="285840" y="3929040"/>
          <a:ext cx="5214960" cy="2752920"/>
        </p:xfrm>
        <a:graphic>
          <a:graphicData uri="http://schemas.openxmlformats.org/drawingml/2006/table">
            <a:tbl>
              <a:tblPr/>
              <a:tblGrid>
                <a:gridCol w="777960"/>
                <a:gridCol w="779400"/>
                <a:gridCol w="1322280"/>
                <a:gridCol w="1168560"/>
                <a:gridCol w="1166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ο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α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η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ο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ε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ι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α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α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ντ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σι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06F87E9F-D369-42C5-923F-67FF26AF366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649680" y="1143000"/>
          <a:ext cx="5351400" cy="2752560"/>
        </p:xfrm>
        <a:graphic>
          <a:graphicData uri="http://schemas.openxmlformats.org/drawingml/2006/table">
            <a:tbl>
              <a:tblPr/>
              <a:tblGrid>
                <a:gridCol w="765000"/>
                <a:gridCol w="763920"/>
                <a:gridCol w="1376280"/>
                <a:gridCol w="1231920"/>
                <a:gridCol w="1214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η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η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υ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α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α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ομενο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TextBox 4"/>
          <p:cNvSpPr/>
          <p:nvPr/>
        </p:nvSpPr>
        <p:spPr>
          <a:xfrm>
            <a:off x="71280" y="1860480"/>
            <a:ext cx="293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Gentium"/>
              </a:rPr>
              <a:t>ῥυομα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1571760" y="1500120"/>
            <a:ext cx="1319040" cy="7034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es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ῥυομενο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571680" y="2786040"/>
            <a:ext cx="1612800" cy="7034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ori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ῥυσαμενο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Straight Arrow Connector 7"/>
          <p:cNvCxnSpPr/>
          <p:nvPr/>
        </p:nvCxnSpPr>
        <p:spPr>
          <a:xfrm flipV="1">
            <a:off x="642600" y="1785240"/>
            <a:ext cx="857880" cy="21492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33" name="Straight Arrow Connector 8"/>
          <p:cNvCxnSpPr/>
          <p:nvPr/>
        </p:nvCxnSpPr>
        <p:spPr>
          <a:xfrm>
            <a:off x="642600" y="2356920"/>
            <a:ext cx="429480" cy="35820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34" name="Straight Arrow Connector 9"/>
          <p:cNvCxnSpPr/>
          <p:nvPr/>
        </p:nvCxnSpPr>
        <p:spPr>
          <a:xfrm>
            <a:off x="2928960" y="1714680"/>
            <a:ext cx="660600" cy="2592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cxnSp>
        <p:nvCxnSpPr>
          <p:cNvPr id="135" name="Straight Arrow Connector 10"/>
          <p:cNvCxnSpPr/>
          <p:nvPr/>
        </p:nvCxnSpPr>
        <p:spPr>
          <a:xfrm>
            <a:off x="1643040" y="3571920"/>
            <a:ext cx="357840" cy="286560"/>
          </a:xfrm>
          <a:prstGeom prst="straightConnector1">
            <a:avLst/>
          </a:prstGeom>
          <a:ln w="25560">
            <a:solidFill>
              <a:srgbClr val="e0b300"/>
            </a:solidFill>
            <a:miter/>
            <a:tailEnd len="med" type="arrow" w="med"/>
          </a:ln>
        </p:spPr>
      </p:cxnSp>
      <p:graphicFrame>
        <p:nvGraphicFramePr>
          <p:cNvPr id="136" name=""/>
          <p:cNvGraphicFramePr/>
          <p:nvPr/>
        </p:nvGraphicFramePr>
        <p:xfrm>
          <a:off x="285840" y="3962520"/>
          <a:ext cx="5786280" cy="275256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1468440"/>
                <a:gridCol w="1312560"/>
                <a:gridCol w="1278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η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η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21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υ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α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α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ῥυσαμενοι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285840" y="1928880"/>
          <a:ext cx="8858160" cy="974520"/>
        </p:xfrm>
        <a:graphic>
          <a:graphicData uri="http://schemas.openxmlformats.org/drawingml/2006/table">
            <a:tbl>
              <a:tblPr/>
              <a:tblGrid>
                <a:gridCol w="3643200"/>
                <a:gridCol w="2786040"/>
                <a:gridCol w="242892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ooden Translations:</a:t>
                      </a: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Participle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tying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Participle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ing untied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1014480" y="3786120"/>
          <a:ext cx="7138800" cy="1158840"/>
        </p:xfrm>
        <a:graphic>
          <a:graphicData uri="http://schemas.openxmlformats.org/drawingml/2006/table">
            <a:tbl>
              <a:tblPr/>
              <a:tblGrid>
                <a:gridCol w="3886200"/>
                <a:gridCol w="32526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Participl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multaneous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Participl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quenc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BEA6A8E0-F429-43B9-848E-6094580D3AD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MEAN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6F1EEDEA-3934-4A80-B893-E753C64DEF7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3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MEAN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642960" y="1428840"/>
            <a:ext cx="7858080" cy="15958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Hi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uccessive Aorist participles are often best translated by a number of main verbs in English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428760" y="3500280"/>
            <a:ext cx="835812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500" spc="-1" strike="noStrike">
                <a:solidFill>
                  <a:srgbClr val="ffffff"/>
                </a:solidFill>
                <a:latin typeface="Arial"/>
                <a:ea typeface="Times New Roman"/>
              </a:rPr>
              <a:t>Mark 5.27-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κουσασα περι του Ἰησ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λθουσα ἐ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τῳ ὀχλῳ ὀπισθεν ἡψατα του ἱματιου αὐτο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hen she heard about Jesus, she came up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ehind in the crowd and touched his cloak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6E9F2DC2-32E5-4F06-96F7-0A39E352F59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OTHER USES OF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133720" y="1163520"/>
            <a:ext cx="48765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4.4.1 As nou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-642960" y="1609560"/>
            <a:ext cx="978696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15.23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ὁ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με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μισω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και τον πατερα μου μισε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e one who hates 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or whoever hates me), also hates my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12.45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 ὁ θεωρων ἐμε θεωρε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τον πεμψαντα μ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one who sees me is seeing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e one who sent 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ts 10.44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πεπεσεν το πνευμα το ἁγιον ἐπι παντας           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τους ἀκουοντα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τον λογ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holy spirit fell on all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ose who were listen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 the wo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B1C4B83F-EC03-4834-86CB-EE8AB1258A4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OTHER USES OF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00040" y="1109520"/>
            <a:ext cx="835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14.4.2 Casual, concessive and instrumental uses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44280" y="1785960"/>
            <a:ext cx="9144000" cy="46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ausal: Matt. 1.19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Ἰωσηφ δε ὁ ἀνηρ αὐτης, δικαιο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ὠ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─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ut Joseph her husband,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because he wa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righteous ..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ncessive: Rom. 1.21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γνοντε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τον θεον οὐχ ὡς θεο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δοξασα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─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Although they knew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God, they did not glorify him as God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trumental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 Tim. 4.16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τουτο γαρ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οιω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και σεαυτον σωσεις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 τους ἀκουοντας σ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or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by do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this (lit: doing this) you will save both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yourself and your hear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38D4FFC6-CBFE-4723-A3C7-CB462A78BDC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4 OTHER USES OF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723960" y="1295280"/>
            <a:ext cx="7696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14.4.3 With Imperatives and Infinitives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42960" y="2357280"/>
            <a:ext cx="7696080" cy="27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rk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.7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κ εἰμι ἱκανος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κυφα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λυσαι το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ἱμαντα των ὑποδηματων αὐτ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 am not worthy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o stoop dow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nd untie the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rap of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is sandals (lit: having stooped down, to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ntie)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AE7FA6E0-6C87-48D3-BC51-1C83862B624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: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762120" y="2286000"/>
            <a:ext cx="7619760" cy="9471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iciples must agree with the noun they qualify in gender, case and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762120" y="1600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ke ad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762120" y="379404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ke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762120" y="4521240"/>
            <a:ext cx="7619760" cy="9471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iciples have a tense (Present or Aorist), and may have an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E25E77CE-5A5E-40C7-B355-3CCF8C4FB4E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: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214200" y="1428840"/>
            <a:ext cx="8643960" cy="46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ample 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v. 7.2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 εἰδον ἀλλον ἀγγελον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ναβαινοντα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ἀπο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νατολης ἡλιου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χοντα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σφραγιδα θεου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I saw another angel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ascending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rom the rising of the su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having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 seal from God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δ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s the main verb, containing in it the subject – 'I saw'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γγελ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s the object – an ang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λλ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s an adjective qualifying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ἀγγελον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entence is enriched by two participles describing the objec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ναβαινοντα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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ἐχον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25937D04-8085-4BF6-BCD0-AA52E000D9B2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: PARTICI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66760" y="1322280"/>
            <a:ext cx="8610480" cy="41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 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1.16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αραγω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παρα την θαλασσαν ... εἰδεν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Σιμωνα και Ἀνδρεαν ...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μφιβαλλοντα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ν τῃ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θαλασσῃ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ile he was pass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longside the sea, he saw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mon and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rew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ast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nets) in the se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δεν Σιμωνα και Ἀνδρεαν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he saw Simon and Andr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αραγω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nominative sin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μφιβαλλοντα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s accusative plu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314261EA-82E7-48D8-BBD7-AFDDFE5BB2F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1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FORM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600200" y="1219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ur basic particip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46160" y="1785960"/>
          <a:ext cx="8877240" cy="1874880"/>
        </p:xfrm>
        <a:graphic>
          <a:graphicData uri="http://schemas.openxmlformats.org/drawingml/2006/table">
            <a:tbl>
              <a:tblPr/>
              <a:tblGrid>
                <a:gridCol w="1425600"/>
                <a:gridCol w="1236600"/>
                <a:gridCol w="1820880"/>
                <a:gridCol w="385560"/>
                <a:gridCol w="1843200"/>
                <a:gridCol w="2165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d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-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untyin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υ-ομε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rescuing)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-σ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aving unti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υ-σαμε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aving rescued)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57"/>
          <p:cNvSpPr/>
          <p:nvPr/>
        </p:nvSpPr>
        <p:spPr>
          <a:xfrm>
            <a:off x="500040" y="3732120"/>
            <a:ext cx="7848720" cy="25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the Aorist there is no augment (there are never augments in the other mood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the Aorist there is a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an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oun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2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orist Participle uses the Present Participle endings (e.g.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βαλω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, as does the (Present)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ἰμ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ὠ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– 'being'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669960" y="1319040"/>
            <a:ext cx="7791480" cy="13230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iciples ending in -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ος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decline like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ἀγαθ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iciples ending otherwise decline like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πας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42920" y="2986200"/>
            <a:ext cx="8854920" cy="31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4.2.1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ῥυομεν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ῥυσαμενος</a:t>
            </a:r>
            <a:r>
              <a:rPr b="0" lang="en-GB" sz="32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se decline exactly as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γαθ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. Thu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ῥυομενου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Accusative masculine plural of the Present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ῥυομα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ρξαμεναι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Dative feminine plural of the Aorist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ρχομα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ρχομενα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Nom./Acc. neuter plural of the Present Participle of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ρχομα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A69349ED-D5CF-4031-A0C8-C74E204FE9C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4A4EC5B3-7D45-44AF-97B0-0B0F0B404DA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527040" y="1557360"/>
            <a:ext cx="807228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14.2.2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ων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an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σας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se follow the 3-1-3 pattern lik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πα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fore, to decline them, we need their three nominative singulars, and th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declension ste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ω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nom. sing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ω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ουσ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decl. stem -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οντ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-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σας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nom. sing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σα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σασ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σα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decl. stem -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σαντ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-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FBAC553E-D6A5-452E-A4B6-076A911E6A4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76040" y="1351080"/>
          <a:ext cx="8786880" cy="4694040"/>
        </p:xfrm>
        <a:graphic>
          <a:graphicData uri="http://schemas.openxmlformats.org/drawingml/2006/table">
            <a:tbl>
              <a:tblPr/>
              <a:tblGrid>
                <a:gridCol w="798840"/>
                <a:gridCol w="1303200"/>
                <a:gridCol w="1328760"/>
                <a:gridCol w="1201680"/>
                <a:gridCol w="1393920"/>
                <a:gridCol w="1366920"/>
                <a:gridCol w="1393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(Active) Participle -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ων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(Active) Participle -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υσας</a:t>
                      </a: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ω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α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α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ο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η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ο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ο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η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ο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ε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α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ε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α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α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α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α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α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ω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ω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ντω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ω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ω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ντω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ι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αι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ουσι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ι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αι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υσασι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4:Grammar </a:t>
            </a:r>
            <a:fld id="{24A794CE-8A99-4E4D-82C7-9F7C75F1725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</a:t>
            </a: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.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14200" y="1214280"/>
            <a:ext cx="9001080" cy="19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σα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- Nom./Acc. neuter singular of the Aorist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λυ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γραφοντι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- Dative masc./neuter singular of the Present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γραφ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λθοντε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- Nom. masculine plural of the (2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 Aorist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ρχομα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σιν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- Dative masc./neut. plural of the Present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μ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71440" y="3143160"/>
            <a:ext cx="8572680" cy="31089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There are two steps in forming a participle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Participle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basic forms (essentially a verbal matter – about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tense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particular instance of that form (essentially an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adjectival matter – about gender, case and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number)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4:45:20Z</dcterms:created>
  <dc:creator>Sarah</dc:creator>
  <dc:description/>
  <dc:language>en-US</dc:language>
  <cp:lastModifiedBy>Sarah</cp:lastModifiedBy>
  <dcterms:modified xsi:type="dcterms:W3CDTF">2009-03-11T22:25:31Z</dcterms:modified>
  <cp:revision>70</cp:revision>
  <dc:subject/>
  <dc:title>Slide 1</dc:title>
</cp:coreProperties>
</file>